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E45D7-9C65-41B5-B25E-651EEEC7B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0C6A-26C3-4B7F-BC58-D9E2E284B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6E35-586B-4469-97B3-D8EC93B48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6567-F76E-469A-AF01-D117ABBEB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A136-787C-4325-8376-42C6DA7A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E06-EC4F-4F0A-AE1E-56750D9E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EC33-3D9A-48D8-A103-92C1352B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19351-0CB5-49BC-A002-B7BC714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6B17-C21C-4926-AACD-5DBBBBC5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D22E-4953-42A1-BC25-728A2A8CC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7095-CAA7-4A16-AC21-3ED046A74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9B9B-B64F-4BE1-8629-700CECF36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E6CB9-1B17-484A-8D45-41181308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D1AD-19DB-4F5A-B26F-F9780407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CF87-1908-4687-988A-1A095569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4637F-8BE7-4E3E-8E1F-DDD55DEA6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DB30E-8ADA-4AF5-8BA4-10ED5620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6A7D1-B45D-4C7F-9F45-5936E3762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F4EB-2561-485D-88E0-D8300C99D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D0274-77FB-4434-9C1C-5E9625734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37A30-A234-40A2-898B-2E3CCA64F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F6B1F-3960-4B95-BAED-092CFE868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3E5D5-32B6-49AF-8508-518C13BE9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FD162B-6DC9-4CAF-BECA-5C1CEF237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D2B-D6E2-4F83-A38E-F2DA9147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AA204-1A17-41ED-BE82-CA3E57ED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8EFC-EB2B-4CDC-AB0B-51427684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3EE56C-0B29-4B42-BC34-15651766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F1CFE-7669-4C38-9D47-D38013CC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A18C-97AE-45E1-8F99-E70D2507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4C2303-C9D6-4236-ABDC-FC80196C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28F80-9251-433A-81FA-4A8789139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48231-721E-402A-B188-646D0222D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46AD9-2F00-4637-8F17-2DB15D83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9E4BE-A33E-4001-A95B-9E8D821B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2E4-E471-4854-98B3-61A52163F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E2ECB-7B89-4432-A7FA-61F15FFFE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715AA-3168-4C42-BE64-93C89F53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4692D-0D1B-48F5-8AE6-757B97DE6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9F86E-1830-4E47-A36E-29E40425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01CDD-BC5E-4043-ADF6-BB908C25D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4FD81-C889-4A86-B449-5959973A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D76584-3215-4C21-ACA0-1BE9B776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04E649-D197-4ABD-9930-0FBF951D6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779A9-74AF-4055-8D1E-D4EC3D6CB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AF24-F830-4AA9-B5BA-62FA39E8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2EB-DAFF-404D-9650-52506FA7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8378AC-7847-43F8-BDAC-1EFF1F45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E7E8-924B-42EB-A58C-0F02917B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888759-CB29-4F56-A1D6-204BB56B9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FBE7D4-67F6-4FEB-B588-CB343762A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0B74-15D1-4358-8D53-1ADFDA2AF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C4C0D8-15A9-4DFC-AFE8-B16D90D7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F1C52-4E25-47FB-8BCD-3B3C0901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7248D-33D3-4F39-BF15-40DEDFC2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D66CD-2BAF-4F7D-AECD-6701931D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2529A1-9141-4D46-A35A-4A336E269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6AF0-3FDE-4B84-9DED-2F8FC5E17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85108-3ADD-4034-8A81-DA7863A6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2C0E-3435-4B0A-9807-214B84D8D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3A51-1DCB-4C8F-B268-682400E1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A192-F39A-40C5-B3B4-666C2D4F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65126-BC29-4C15-95F2-4DC2DA789E57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0257-555B-43EF-9AF9-3099A923AE12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9569-F915-4682-AE61-B21927F3B662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d1e1e3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d1e1e3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d1e1e3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d1e1e3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F8109-52D6-4AE6-8F16-444D6052EE5F}" type="slidenum">
              <a:rPr b="0" lang="en-US" sz="1100" spc="-1" strike="noStrike">
                <a:solidFill>
                  <a:srgbClr val="d1e1e3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a606e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4a606e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2BE7C-EFF1-43F6-8307-039EEF2674AF}" type="slidenum">
              <a:rPr b="0" lang="en-US" sz="1100" spc="-1" strike="noStrike">
                <a:solidFill>
                  <a:srgbClr val="4a606e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outube.com/watch?v=Lyk_43p71x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53572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- THE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Parties – introduce essential peop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cene – paint a picture for the ju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ssue – what is the main issu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happened – get the jury to believe your side of the 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Basis of guilt/non-guilt – why your side should w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nticipating and refuting the other 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onclusion - Simply and directly</a:t>
            </a:r>
            <a:r>
              <a:rPr b="0" lang="en-US" sz="2600" spc="-1" strike="noStrike">
                <a:solidFill>
                  <a:srgbClr val="cc0000"/>
                </a:solidFill>
                <a:latin typeface="Trebuchet MS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ell jury that facts of the case will support his/her side, and ask for a verdict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Grabber beginning – quick summary of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me/theory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that draws jurors i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troduction – who are you and who do you represent? (or do this firs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acts/Witnesses –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ell the st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14400" indent="-514440">
              <a:spcBef>
                <a:spcPts val="499"/>
              </a:spcBef>
              <a:buClr>
                <a:srgbClr val="f9b639"/>
              </a:buClr>
              <a:buSzPct val="80000"/>
              <a:buFont typeface="Trebuchet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Paint the scenes and introduce the players as they come up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hort close – return to/restate your them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harge the jury – tell them what you’re going to ask them to fin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353880" y="-6480"/>
            <a:ext cx="7351920" cy="11588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228600" y="13712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Jackie Demathers, a 15 year old is accused of Class B offense of robbery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degree. On the night of March 15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, Officers Tina Rogers, and George Ryan saw the three come out of the Exel Station and run toward the alley behind the gas station. Confirmed by a radio call that the station had just been robbed, the police with a back-up car apprehended Jackie Demathers, Raymond Carr and Kimberely Anson in the alley. Demathers had a paper bag with 227.58 in his pocket. The station attendant identifies the three as the robber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Raymond Carr and Kimberely Anson pleaded guilty to robbery in the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rebuchet MS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degree. Jackie Demathers went to court where he is pleading the defense of duress. If he proves the defense of duress, he must be found not guilt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your theme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is your hoo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buClr>
                <a:srgbClr val="4a606e"/>
              </a:buClr>
              <a:buSzPct val="73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3.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h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Burden of proof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 – must prove beyond a reasonable doub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Trebuchet MS"/>
              </a:rPr>
              <a:t>Duress: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defendant participated in the offense under compulsion or force by another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a criminal case, the defendant can use the defense of temporary insanity duress, which can result in a verdict of not guilty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n what cases do you think duress should be allow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r side’s version of “what really happened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Logical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Fit the legal requirements of the claims or defense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e simple to understand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Be consistent with the jurors’ common sense and their perception of how real life works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15160" indent="-22608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ecced"/>
                </a:solidFill>
                <a:uFillTx/>
                <a:latin typeface="Trebuchet MS"/>
                <a:hlinkClick r:id="rId2"/>
              </a:rPr>
              <a:t>http://www.youtube.com/watch?v=Lyk_43p71xs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228240" y="1676160"/>
            <a:ext cx="80773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HOO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– two children without a fath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THEME/THESE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“She didn’t care”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f she can’t have him then no one can”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HARACTER SKETCH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painted a picture of Nikki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INTRODUCE WITNESSE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told the stor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CHARGE THE JURY: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mple tell the jury the verdict they will come t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Memorable word or phrase that summarizes your theory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On what should themes be based?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 </a:t>
            </a:r>
            <a:r>
              <a:rPr b="0" lang="en-US" sz="2300" spc="-1" strike="noStrike">
                <a:solidFill>
                  <a:srgbClr val="6c6c6c"/>
                </a:solidFill>
                <a:latin typeface="Trebuchet MS"/>
              </a:rPr>
              <a:t>Some examples: 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is is a case about taking chances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Mary Jones had a dream and a plan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Revenge. That’s what this case is all about.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This is a case about police brutality”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Greed &amp; misfortunes leads us here today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Libel/Slander cas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Lukas Reiter wa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caught red-handed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, and now he wants someone else to pay for his affair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laintiff: Richard McKyton made a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jealous jump to conclusion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urder/Self Defense cas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 1: With her back up against the wall and her roommate threatening to kill her, Ms. Hughes ha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run out of option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Prosecution 1: Pat Hughe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took the law into her own hands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 2: Facing death, Sarah Baker di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what all living things are instinctively programmed to do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…she defended herself.  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ounterfeit case – missing “other suspect”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Reggie Jefferson had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the perfect cover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:  A trusting roommate with the same initials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egligence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510120" indent="-223920">
              <a:lnSpc>
                <a:spcPct val="80000"/>
              </a:lnSpc>
              <a:spcBef>
                <a:spcPts val="499"/>
              </a:spcBef>
              <a:buClr>
                <a:srgbClr val="776a5b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Defense: It is </a:t>
            </a:r>
            <a:r>
              <a:rPr b="0" lang="en-US" sz="1800" spc="-1" strike="noStrike" u="sng">
                <a:solidFill>
                  <a:srgbClr val="6c6c6c"/>
                </a:solidFill>
                <a:uFillTx/>
                <a:latin typeface="Trebuchet MS"/>
              </a:rPr>
              <a:t>every driver’s worst nightmare</a:t>
            </a:r>
            <a:r>
              <a:rPr b="0" lang="en-US" sz="1800" spc="-1" strike="noStrike">
                <a:solidFill>
                  <a:srgbClr val="6c6c6c"/>
                </a:solidFill>
                <a:latin typeface="Trebuchet MS"/>
              </a:rPr>
              <a:t>.  A small child darts into the road.</a:t>
            </a:r>
            <a:endParaRPr b="0" lang="en-US" sz="1800" spc="-1" strike="noStrike">
              <a:solidFill>
                <a:srgbClr val="6c6c6c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Tell a stor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Focus on the people, not the problem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Who are the important players?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Personalize your party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Make the story </a:t>
            </a:r>
            <a:r>
              <a:rPr b="1" lang="en-US" sz="2000" spc="-1" strike="noStrike">
                <a:solidFill>
                  <a:srgbClr val="6c6c6c"/>
                </a:solidFill>
                <a:latin typeface="Trebuchet MS"/>
              </a:rPr>
              <a:t>vivid</a:t>
            </a: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. 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Re-create the incident. 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8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rebuchet MS"/>
              </a:rPr>
              <a:t>Make it emotional and dramatic</a:t>
            </a:r>
            <a:endParaRPr b="0" lang="en-US" sz="17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KEEP IT SIMPLE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rebuchet MS"/>
              </a:rPr>
              <a:t>Be Logical and concise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c6c6c"/>
                </a:solidFill>
                <a:latin typeface="Trebuchet MS"/>
              </a:rPr>
              <a:t>Walk the jurors through the events in chronological order.</a:t>
            </a:r>
            <a:endParaRPr b="0" lang="en-US" sz="20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nticipate the other side’s weakness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overstate the evidenc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include your personal opinion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4a606e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on’t argue -at least not in an obvious way </a:t>
            </a:r>
            <a:r>
              <a:rPr b="0" lang="en-US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22:58Z</dcterms:created>
  <dc:creator>Lauren Hemingway</dc:creator>
  <dc:description/>
  <dc:language>en-US</dc:language>
  <cp:lastModifiedBy>hmhendri</cp:lastModifiedBy>
  <dcterms:modified xsi:type="dcterms:W3CDTF">2012-03-05T20:23:57Z</dcterms:modified>
  <cp:revision>21</cp:revision>
  <dc:subject/>
  <dc:title>Slide 1</dc:title>
</cp:coreProperties>
</file>